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396-08E0-4F66-8B36-42B8C15F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E35-ECAD-4311-A200-386971E9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36E-FC50-4069-AD2A-BF68462F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0B5-1CFA-4A1F-A2B6-FC4EF6C6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BA0-C02F-4A75-B26A-FE685415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DC9E-38FA-49E6-AA3A-842F469E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74F-846F-444E-957B-910B217D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DB24-863C-4AC9-8414-7400617C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18E-68DF-49D9-9FC1-3F68F8AB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DFC-74AB-43C2-AE39-5B118F08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45E-FF70-4148-87D1-5A33DB27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BAB-BFF8-4E00-9CC1-A61FE7DB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4001-4128-4C92-A959-DAF0D1DDD50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Global Climat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ve 66.5 in both hemispheres ar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ar Regions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ich are very c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receive sunlight for only half the year due to the angle of the Earth on its ro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the months when they do have sunlight, it travels to them at a very shallow angle, meaning that it has to travel through a lot of the atmosphere and has to heat a wide area of the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any areas beside the sea are affected by ocean current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se can be either warm or cold current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United Kingdom is directly in the path of the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Gulf Stream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Northern Atlantic Stream,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which bring warm water from the Caribbean across the Atlantic to our shore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current alone is the reason why our climate is mild compared to places of similar latitude like Newfoundlan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evailing Wi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prevailing (most common) wind in the United Kingdom comes form the South West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f a prevailing wind travels over a warm surface it will bring warm weather, whilst if it travels over a cold surface it will bring cold weather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south-westerly winds in Britain travel across the Atlantic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n the summer this means that the air is cooled, whilst in the winter the water warms the air, bringing warmer winters than we might expec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Global Distribution Of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Climate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describes the temperature, precipitation, and other weather conditions of a certain area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 climate of an area describes how these variables may be over a long period, for instance the South of France in the summer is hot and dry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However this is not always the case as there are some days when it is raining and fairly cool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se daily changes do not affect the overall climate of the area, and are described as the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eather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of the area for that day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orld Clim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metoffice.gov.uk/education/teachers/images/worldclimate.gif"/>
          <p:cNvPicPr/>
          <p:nvPr/>
        </p:nvPicPr>
        <p:blipFill>
          <a:blip r:embed="rId1"/>
          <a:stretch/>
        </p:blipFill>
        <p:spPr>
          <a:xfrm>
            <a:off x="179280" y="1230480"/>
            <a:ext cx="885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actors Affecting Cli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Al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Asp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Distance From The S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Prevailing Wi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l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emperature falls the higher you are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loss in temperature is approximately 10°C for every kilometre you rise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fall in temperature with height is due to the fact that the air at higher altitudes is thinner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re are fewer molecules available to receive and retain heat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Wind chill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may also mean that the temperatures in upland areas are lower than expecte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sp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relates to the direction in which a place is facing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spect only really affects local climate, not global one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 the Northern Hemisphere, south facing slopes receive far more sunlight than north facing one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se are therefore much better for agriculture and often settlement will locate there due to the better aspec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Distance From The S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sea can have a great influence over climates in maritime region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sea takes much longer to heat up but retains that heat far better than the land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equently the land is often warmer than the sea during the day, however the situation is reversed at nigh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means that places like Britain, which are near the sea, have relatively cool days and warm nights, as well as warm summers and mild winte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influence of the sea diminishes as you move further inland, for instance to central Europe, where warmer winters and cooler summers will be experienc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itude on global clima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s of Latitude are those that run horizontally around the wor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famous line of latitude is the Equa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lines of latitude we can easily divide the world in to specific climatic se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tween 23.5 South and 23.5 North is the region called the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ropic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se receive the most heat from the sun because it is almost directly overhead and so the solar radiation does not have to travel through very much of the atmosphe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heats a very concentrated area of the surface of the groun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tween 23.5 and 66.5 in both the Northern and Southern Hemispheres are the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emperat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region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se have reasonably hot summers and mild winter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8:21:27Z</dcterms:created>
  <dc:creator>Dell_02</dc:creator>
  <dc:description/>
  <dc:language>en-US</dc:language>
  <cp:lastModifiedBy>Dell_02</cp:lastModifiedBy>
  <dcterms:modified xsi:type="dcterms:W3CDTF">2011-01-27T18:51:15Z</dcterms:modified>
  <cp:revision>3</cp:revision>
  <dc:subject/>
  <dc:title>Global Climates</dc:title>
</cp:coreProperties>
</file>